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82EA-E586-466B-B84C-307DF384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third bullet (interrelate…) is the rationale for the activity in Ac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A27E-7DFF-4242-BF13-8926B790B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4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773-24EC-4FAA-BD40-D143213C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DA35-DB4E-4A96-AF09-657C05EF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think this would be about 30 minutes, with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47DC-B2B6-4AA4-BCDE-56E2DEE94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uld discuss strategies they used – sequential selection of x val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B46E-41AC-41A1-B98D-01DDCD773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A69D-D3E4-4C50-9621-78816D80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2D97-75D5-44F3-ABEB-51C2F11B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5E7E-7C2D-4AD1-B4B2-6A2F4579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CA5-33EC-4CD9-AF20-E1DD1D34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&lt;&lt; Both student struggles and teacher suggestions need to be edited – I just copied them all in for now but we will need to reduce the list to remove repetitive entries&gt;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A67E-F104-40C9-931E-1C684401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991-46F9-42CF-9E53-D8D29F8E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069-1795-4ABA-B4BE-73A621B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AA3-9B56-4AFB-9816-410173C6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190-F5BD-4C8B-8CE1-C5EE7759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07AC-E978-4233-B0F7-35D7C657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0BB3-D70B-436C-A65B-47DE6D6B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6E90-CC5B-4DF5-AE98-9592B8A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6007-6141-4433-9F34-612861A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BA7E-03FC-42A4-838E-D89AC87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929D-CE20-4065-916F-77581E86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ECB-06C4-40A6-8379-A2E17946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8EF-553D-42A4-99D0-BA015AC8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8764-B942-4AF3-B325-20A446B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7FD-AD3F-4066-900A-70DE832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99F5-15B7-4ED0-B046-0B0D8C22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5825-10A9-47F3-AE69-4489BA7B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E92C-EE13-48CD-A3CB-247AC543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7A3-A767-43DF-A847-EC580B60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06C-9B4C-4679-8628-6D23063C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CE1-25CE-4C4A-8608-EB3F0EF2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562-A131-42E8-A95D-DFC50C6E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024-4652-4177-BE33-DD752B1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08A-51A6-4A37-B016-4F007CF7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C1E-C5AB-4A20-BA8D-6F5BB8F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4D9-0F8E-488F-AEB2-A2C06DC346E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34DD-8C87-42A6-9269-7B80B7AFEC3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 the vertex form by connecting it to the standard form and emphasize the connections to the graph as well as information about how and when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these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,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relate graphical and algebra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add instructions here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truggles that you experienced while engaged in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, record struggles you think students might have when completing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at least one question for each struggle which w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Reveal the struggl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 for some struggling stud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insert revised (when it is) BLM QR.2.2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conceptions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s for lesson goals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8572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understand the power of th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2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henomenon of compartmentalization – having two different, potentially conflicting algebraic and graphical schemes in the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2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not true for algebraic t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build quadratic functions by multiplying linear functions (rather than seeing them as a new, unrelated to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s.yearley</cp:lastModifiedBy>
  <dcterms:modified xsi:type="dcterms:W3CDTF">2009-07-19T18:49:45Z</dcterms:modified>
  <cp:revision>123</cp:revision>
  <dc:subject/>
  <dc:title>Slide 1</dc:title>
</cp:coreProperties>
</file>